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1F80-A0C8-4838-8E64-B7DB8A15A7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075C-5496-4C09-8214-AA7F6AC412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ED211-2298-4A03-8AFB-ABD91E2D74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73295-93A7-47A8-B3B6-02EB3E669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142BD-3D6E-4E16-A4D5-B5826A1CD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BF874-230C-4771-97E1-F9AC1275CE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1F55-C709-4BA7-BDF7-E61732D7E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649-DF72-4925-998F-B6F697B5F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D33F6-33F1-4116-BE04-C34F94F46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1EEC2-EBA8-470E-8CA6-939B3EAEC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D36FB-352B-4679-8093-7F7A32C60C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7F6C-15E0-4846-A0D1-1B5D8510A1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F370F-981E-4496-93F9-E9C28A1D1D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1D6B-A20D-415E-8634-B79DAFE2F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1B6B-7CE6-4F10-83C0-18367C8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FE2-48E3-4B75-BADC-A1EFFF243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CB8A-7480-4F2A-9FEE-00203F21B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B8DE-773E-43D3-86E1-24944B8B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6501-014C-4EB1-8BA2-079B76C03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38CC-605A-47DF-A2E4-F37FB745F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828C-4D51-4EEF-8C2B-B80303CFD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FB24-AE72-47A7-A489-0B936045F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A43AE-EE20-4D9E-8D9C-DCBFE7C5E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221D-BF95-4A63-8D26-D72CCA15F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CAE3-8E54-4761-B182-57580B66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42E0-E3E7-4BC1-8AC7-A23ADF8E4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5.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Natural Logarithmic Fun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OGARITHMIC DIFFERENT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520" y="3504960"/>
            <a:ext cx="61722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logarithms of both sides of an equa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and use the laws of logarithms to simplif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te implicitly with respect to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e the resulting equation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80880" y="2133720"/>
            <a:ext cx="5791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can we use this information to help us solve problem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ifferenti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ln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3009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rite: y=3ln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4"/>
              <p:cNvSpPr txBox="1"/>
              <p:nvPr/>
            </p:nvSpPr>
            <p:spPr>
              <a:xfrm>
                <a:off x="1295280" y="3200400"/>
                <a:ext cx="711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0" name="Rectangle 6"/>
          <p:cNvSpPr/>
          <p:nvPr/>
        </p:nvSpPr>
        <p:spPr>
          <a:xfrm>
            <a:off x="303840" y="335268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’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1911600" y="3429000"/>
            <a:ext cx="16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8"/>
              <p:cNvSpPr txBox="1"/>
              <p:nvPr/>
            </p:nvSpPr>
            <p:spPr>
              <a:xfrm>
                <a:off x="277920" y="4495680"/>
                <a:ext cx="47005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10"/>
              <p:cNvSpPr txBox="1"/>
              <p:nvPr/>
            </p:nvSpPr>
            <p:spPr>
              <a:xfrm>
                <a:off x="447840" y="6005520"/>
                <a:ext cx="253188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Differentiat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ln(3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-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2133360"/>
            <a:ext cx="30099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wite: y=3ln(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Object 4"/>
              <p:cNvSpPr txBox="1"/>
              <p:nvPr/>
            </p:nvSpPr>
            <p:spPr>
              <a:xfrm>
                <a:off x="1295280" y="3200400"/>
                <a:ext cx="71136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Rectangle 5"/>
          <p:cNvSpPr/>
          <p:nvPr/>
        </p:nvSpPr>
        <p:spPr>
          <a:xfrm>
            <a:off x="303840" y="3352680"/>
            <a:ext cx="115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’ = 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1911600" y="3429000"/>
            <a:ext cx="163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(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7"/>
              <p:cNvSpPr txBox="1"/>
              <p:nvPr/>
            </p:nvSpPr>
            <p:spPr>
              <a:xfrm>
                <a:off x="277920" y="4495680"/>
                <a:ext cx="4700520" cy="124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8"/>
              <p:cNvSpPr txBox="1"/>
              <p:nvPr/>
            </p:nvSpPr>
            <p:spPr>
              <a:xfrm>
                <a:off x="447840" y="6005520"/>
                <a:ext cx="3895560" cy="122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t xml:space="preserve">x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2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NATURAL LOGARITHMIC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28600" y="2133720"/>
            <a:ext cx="64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The </a:t>
            </a:r>
            <a:r>
              <a:rPr b="1" lang="en-US" sz="3600" spc="-1" strike="noStrike" u="sng">
                <a:solidFill>
                  <a:srgbClr val="3333ff"/>
                </a:solidFill>
                <a:uFillTx/>
                <a:latin typeface="Times New Roman"/>
              </a:rPr>
              <a:t>natural logarithmic function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the function defined 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1066680" y="3962520"/>
                <a:ext cx="4648320" cy="149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  <m:r>
                      <m:t xml:space="preserve"> </m:t>
                    </m:r>
                    <m:r>
                      <m:t xml:space="preserve">x</m:t>
                    </m:r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3" name="Rectangle 7"/>
          <p:cNvSpPr/>
          <p:nvPr/>
        </p:nvSpPr>
        <p:spPr>
          <a:xfrm>
            <a:off x="457200" y="6019920"/>
            <a:ext cx="4724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ember this from t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graphing activ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ERIVATIVE OF THE NATURAL LOGARITHMIC FUN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285840" y="2540160"/>
            <a:ext cx="62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rom the Fundamental Theorem of Calculus, Part 1, we see th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6" name="Object 4"/>
              <p:cNvSpPr txBox="1"/>
              <p:nvPr/>
            </p:nvSpPr>
            <p:spPr>
              <a:xfrm>
                <a:off x="1600200" y="3962520"/>
                <a:ext cx="282096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7" name="Rectangle 6"/>
          <p:cNvSpPr/>
          <p:nvPr/>
        </p:nvSpPr>
        <p:spPr>
          <a:xfrm>
            <a:off x="993600" y="5867280"/>
            <a:ext cx="469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emember we discus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s in cla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AWS OF LOGARITH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3"/>
          <p:cNvSpPr/>
          <p:nvPr/>
        </p:nvSpPr>
        <p:spPr>
          <a:xfrm>
            <a:off x="304920" y="1905120"/>
            <a:ext cx="62863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se rules for logarith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re positive numbers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rational number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838080" y="4952880"/>
                <a:ext cx="4876920" cy="281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xy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x</m:t>
                                </m:r>
                              </m:num>
                              <m:den>
                                <m:r>
                                  <m:t xml:space="preserve">y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y</m:t>
                        </m:r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r</m:t>
                                </m:r>
                              </m:sup>
                            </m:sSup>
                          </m:e>
                        </m:d>
                        <m:r>
                          <m:t xml:space="preserve">=</m:t>
                        </m:r>
                        <m:r>
                          <m:t xml:space="preserve">r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3"/>
          <p:cNvSpPr/>
          <p:nvPr/>
        </p:nvSpPr>
        <p:spPr>
          <a:xfrm>
            <a:off x="304920" y="3733920"/>
            <a:ext cx="6229080" cy="31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92040" indent="-392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in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unction, si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392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92040" indent="-3920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The graph of  l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s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concave downward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si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514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ROPERTIES OF THE NATURAL LOGARITHMIC FUN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2057400" y="4648320"/>
                <a:ext cx="281952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6"/>
              <p:cNvSpPr txBox="1"/>
              <p:nvPr/>
            </p:nvSpPr>
            <p:spPr>
              <a:xfrm>
                <a:off x="2133720" y="6858000"/>
                <a:ext cx="3429000" cy="112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" name="Rectangle 8"/>
          <p:cNvSpPr/>
          <p:nvPr/>
        </p:nvSpPr>
        <p:spPr>
          <a:xfrm>
            <a:off x="462960" y="2082960"/>
            <a:ext cx="609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sing calculus, we can describ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natural logarithmic functio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9"/>
          <p:cNvSpPr/>
          <p:nvPr/>
        </p:nvSpPr>
        <p:spPr>
          <a:xfrm>
            <a:off x="606960" y="3276720"/>
            <a:ext cx="271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member x&gt;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3"/>
              <p:cNvSpPr txBox="1"/>
              <p:nvPr/>
            </p:nvSpPr>
            <p:spPr>
              <a:xfrm>
                <a:off x="685800" y="1600200"/>
                <a:ext cx="5238720" cy="27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lim>
                        </m:limLow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∞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sSup>
                              <m:e>
                                <m:r>
                                  <m:t xml:space="preserve">0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lim>
                        </m:limLow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∞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9" name="Rectangle 5"/>
          <p:cNvSpPr/>
          <p:nvPr/>
        </p:nvSpPr>
        <p:spPr>
          <a:xfrm>
            <a:off x="609480" y="4267080"/>
            <a:ext cx="2057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s is consistent with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know about the graph of ln(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Picture 7" descr=""/>
          <p:cNvPicPr/>
          <p:nvPr/>
        </p:nvPicPr>
        <p:blipFill>
          <a:blip r:embed="rId1"/>
          <a:stretch/>
        </p:blipFill>
        <p:spPr>
          <a:xfrm>
            <a:off x="2438280" y="4191120"/>
            <a:ext cx="4191120" cy="33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DERIVATIVE OF THE NATURAL LOGARITHM AND THE CHAIN RU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1066680" y="2743200"/>
                <a:ext cx="43056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g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Rectangle 5"/>
          <p:cNvSpPr/>
          <p:nvPr/>
        </p:nvSpPr>
        <p:spPr>
          <a:xfrm>
            <a:off x="529200" y="5105520"/>
            <a:ext cx="469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e introduced this in cla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DERIVATIVES INVOLVING THE NATURAL LOGARITH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9960" y="24382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Object 5"/>
              <p:cNvSpPr txBox="1"/>
              <p:nvPr/>
            </p:nvSpPr>
            <p:spPr>
              <a:xfrm>
                <a:off x="685800" y="3200400"/>
                <a:ext cx="4800600" cy="217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d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|</m:t>
                            </m:r>
                            <m:r>
                              <m:t xml:space="preserve">x</m:t>
                            </m:r>
                            <m:r>
                              <m:t xml:space="preserve">|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|</m:t>
                        </m:r>
                        <m:r>
                          <m:t xml:space="preserve">x</m:t>
                        </m:r>
                        <m:r>
                          <m:t xml:space="preserve">|</m:t>
                        </m:r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7" name="Rectangle 7"/>
          <p:cNvSpPr/>
          <p:nvPr/>
        </p:nvSpPr>
        <p:spPr>
          <a:xfrm>
            <a:off x="609480" y="5410080"/>
            <a:ext cx="41911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Remember the domain of the natural log is positive real numb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NTIDERIVATIVES OF SOME TRIGONOMETRIC FUN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" name="Object 3"/>
              <p:cNvSpPr txBox="1"/>
              <p:nvPr/>
            </p:nvSpPr>
            <p:spPr>
              <a:xfrm>
                <a:off x="533520" y="2438280"/>
                <a:ext cx="32572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5"/>
              <p:cNvSpPr txBox="1"/>
              <p:nvPr/>
            </p:nvSpPr>
            <p:spPr>
              <a:xfrm>
                <a:off x="514440" y="3686040"/>
                <a:ext cx="3200400" cy="58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ot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7"/>
              <p:cNvSpPr txBox="1"/>
              <p:nvPr/>
            </p:nvSpPr>
            <p:spPr>
              <a:xfrm>
                <a:off x="514440" y="4865760"/>
                <a:ext cx="41720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ec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sec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tan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9"/>
              <p:cNvSpPr txBox="1"/>
              <p:nvPr/>
            </p:nvSpPr>
            <p:spPr>
              <a:xfrm>
                <a:off x="457200" y="6126120"/>
                <a:ext cx="4172040" cy="59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sc</m:t>
                        </m:r>
                        <m:r>
                          <m:t xml:space="preserve">x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csc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cot</m:t>
                    </m:r>
                    <m:r>
                      <m:t xml:space="preserve">x</m:t>
                    </m:r>
                    <m:r>
                      <m:t xml:space="preserve">|</m:t>
                    </m:r>
                    <m:r>
                      <m:t xml:space="preserve">+</m:t>
                    </m:r>
                    <m:r>
                      <m:t xml:space="preserve"> 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" name="Rectangle 11"/>
          <p:cNvSpPr/>
          <p:nvPr/>
        </p:nvSpPr>
        <p:spPr>
          <a:xfrm>
            <a:off x="1294560" y="7010280"/>
            <a:ext cx="279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ff"/>
                </a:solidFill>
                <a:latin typeface="Times New Roman"/>
              </a:rPr>
              <a:t>Memorize the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0T01:40:46Z</dcterms:created>
  <dc:creator>Allen Fuller</dc:creator>
  <dc:description/>
  <dc:language>en-US</dc:language>
  <cp:lastModifiedBy>sraja</cp:lastModifiedBy>
  <dcterms:modified xsi:type="dcterms:W3CDTF">2011-04-12T18:08:50Z</dcterms:modified>
  <cp:revision>15</cp:revision>
  <dc:subject/>
  <dc:title>Section 7.2*</dc:title>
</cp:coreProperties>
</file>